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0E4-45E3-49F8-92E9-AC8FD4A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AEB-C3EC-40F9-84E1-D739A40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C78-FD2C-4B25-8732-83D96EC1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4E3-2F81-4B08-AB0C-6635F2CC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144-0EB7-4273-8298-C509B8CA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09B-9BC7-45AE-A721-5AB3EE4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DA2-8F4F-4B8B-A98C-CCDD17C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227-B980-45A5-A987-6AF05355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1F3-98F1-4A0C-BF7B-A50695C0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4D2-C246-4E5F-8432-560CEB32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5E5-6D73-41D8-88AD-FD22CF4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6F0-DF70-4A25-BF34-D4921EC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0A86-D663-4607-9AF2-6A027F9F0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040" y="2133720"/>
            <a:ext cx="71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ature’s Incredible Fire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 David L. Har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87520" y="1817640"/>
            <a:ext cx="7221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gure out how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arthquakes happe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9680" y="1969920"/>
            <a:ext cx="77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re volcanoes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78880" y="1741320"/>
            <a:ext cx="76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e Pacific Oce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call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00" y="167652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Vesuvius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ne of the most famo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o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560" y="1676520"/>
            <a:ext cx="904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at helps us to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en a volcano may erup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8800" y="1817640"/>
            <a:ext cx="908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o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ree things we k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bout volcano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7680" y="167652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volcanoe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nature’s firework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0920" y="1360440"/>
            <a:ext cx="640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d out what 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oes look li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om far aw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0200" y="1523880"/>
            <a:ext cx="65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nd out what blo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f melted rock a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ll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54120" y="1295280"/>
            <a:ext cx="770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gure out wh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olcanic explo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 floods, mu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ides, and avalanch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61560" y="1436760"/>
            <a:ext cx="747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rivers of lav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low instead of 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xplosio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3840" y="1741320"/>
            <a:ext cx="747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ere lava flow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680" y="1447920"/>
            <a:ext cx="823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g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y some lava flow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wly and some flow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quickl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37880" y="2198520"/>
            <a:ext cx="747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the crust i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vered b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7680" y="1665360"/>
            <a:ext cx="765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verybody read to fi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ut what magma 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0:36:06Z</dcterms:created>
  <dc:creator>New User</dc:creator>
  <dc:description/>
  <dc:language>en-US</dc:language>
  <cp:lastModifiedBy>Rutherford County Schools</cp:lastModifiedBy>
  <dcterms:modified xsi:type="dcterms:W3CDTF">2007-04-21T15:27:08Z</dcterms:modified>
  <cp:revision>1</cp:revision>
  <dc:subject/>
  <dc:title>PowerPoint Presentation</dc:title>
</cp:coreProperties>
</file>